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A05-50A6-4DC2-873E-9AC0AC9D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5F7-5853-42A5-9060-77707562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3B5-E402-4DA5-8F18-6CD4E145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D6F-A1FC-403B-B594-4E74C152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710-EACE-4409-9F32-B07DF172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45F4-89C7-44F9-B8BC-9E8FD4E3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8038-791A-4565-809C-D79494FF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299C-289E-4885-8B68-7DAAF2FA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3CC6-1465-4092-A1DB-E715A3E7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324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8D7F-84AA-4724-A570-78CB898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18ED-9E7D-4E4C-A3BC-D7E7330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762-9585-41B7-933E-4AD820E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E023-4F68-406F-92BC-D7FD6CE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C14C-3E87-4D94-AE0B-77E7E5C9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3955-DAB4-4EDA-8A59-98BFE02E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EB85-698A-4761-AB3C-C94A940F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35B2-BCEF-409E-8B2D-6FA47C8B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F8E-B92D-4284-8911-D1B6BDA4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4BB-CCA0-4D8F-BE95-03EFDF2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65E-A4D1-4CAB-8C27-77505B8F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324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BF3-A184-4361-843F-E0BC982D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5E2-5B81-4892-834B-8217281C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BD6-4C27-49BB-9702-141AE14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9A3-C53E-4472-963D-8272BCE2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55272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2B9-9081-472F-816B-E0717DE45C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066680" cy="784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14400" cy="4730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E0D2-FF0D-4CF5-B7A2-CEDF5C4E7F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6680"/>
            <a:ext cx="1067040" cy="78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380880"/>
            <a:ext cx="6261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itute for Software Integrated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Vanderbilt Univers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9144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apps\matlab\bin\win32\matlab.exe" TargetMode="External"/><Relationship Id="rId2" Type="http://schemas.openxmlformats.org/officeDocument/2006/relationships/image" Target="../media/image3.png"/><Relationship Id="rId3" Type="http://schemas.openxmlformats.org/officeDocument/2006/relationships/hyperlink" Target="C:\projects\ford\Demos\PI-July-02\DesertTool.exe ft_ds.xml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C:\projects\ford\Demos\PI-July-02\DBHSFA2HSF.exe ft_ds_back.xml ft_hsfa.xml" TargetMode="External"/><Relationship Id="rId7" Type="http://schemas.openxmlformats.org/officeDocument/2006/relationships/image" Target="../media/image6.png"/><Relationship Id="rId8" Type="http://schemas.openxmlformats.org/officeDocument/2006/relationships/hyperlink" Target="c:\winnt\system32\cmd.exe /c start b2p_final_definition.m" TargetMode="External"/><Relationship Id="rId9" Type="http://schemas.openxmlformats.org/officeDocument/2006/relationships/hyperlink" Target="c:\winnt\system32\cmd.exe /c start ford_test.mga" TargetMode="External"/><Relationship Id="rId10" Type="http://schemas.openxmlformats.org/officeDocument/2006/relationships/hyperlink" Target="C:\projects\ford\Demos\PI-July-02\DSME2HSFA.exe ford_test.mga ft_hsfa.xml" TargetMode="External"/><Relationship Id="rId11" Type="http://schemas.openxmlformats.org/officeDocument/2006/relationships/hyperlink" Target="c:\winnt\system32\cmd.exe /c start ft_build.m" TargetMode="External"/><Relationship Id="rId12" Type="http://schemas.openxmlformats.org/officeDocument/2006/relationships/hyperlink" Target="C:\projects\ford\Demos\PI-July-02\HSF2M.exe ft_hsfa_cfg_0.xml ft_build.m" TargetMode="External"/><Relationship Id="rId13" Type="http://schemas.openxmlformats.org/officeDocument/2006/relationships/hyperlink" Target="c:\winnt\system32\cmd.exe /c start ford_test.mga" TargetMode="External"/><Relationship Id="rId14" Type="http://schemas.openxmlformats.org/officeDocument/2006/relationships/hyperlink" Target="C:\projects\ford\Demos\PI-July-02\HSF2M.exe ft_hsfa_cfg_0.xml ft_build.m" TargetMode="External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9000" y="3774960"/>
            <a:ext cx="2209680" cy="1143000"/>
          </a:xfrm>
          <a:prstGeom prst="bevel">
            <a:avLst>
              <a:gd name="adj" fmla="val 8097"/>
            </a:avLst>
          </a:prstGeom>
          <a:solidFill>
            <a:srgbClr val="ffffff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AMC Tool Architecture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5372280"/>
            <a:ext cx="761760" cy="677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33760" y="2422440"/>
            <a:ext cx="1295640" cy="100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53040" y="1828800"/>
            <a:ext cx="173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DESER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Tahoma"/>
              </a:rPr>
              <a:t>(DesertTool.ex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88920" y="1192320"/>
            <a:ext cx="1206360" cy="84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09040" y="2408400"/>
            <a:ext cx="1263600" cy="1029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1720" y="838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G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927600"/>
            <a:ext cx="609480" cy="8380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mp.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del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abase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mdl files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>
            <a:hlinkClick r:id="rId8"/>
          </p:cNvPr>
          <p:cNvSpPr/>
          <p:nvPr/>
        </p:nvSpPr>
        <p:spPr>
          <a:xfrm>
            <a:off x="4800600" y="3927600"/>
            <a:ext cx="609480" cy="8380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mp.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ictiona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m files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19680" y="1827360"/>
            <a:ext cx="1643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DB2DS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Tahoma"/>
              </a:rPr>
              <a:t>(DB2DSME.ex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90400" y="6140520"/>
            <a:ext cx="11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Matlab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Simulin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>
            <a:hlinkClick r:id="rId9"/>
          </p:cNvPr>
          <p:cNvSpPr/>
          <p:nvPr/>
        </p:nvSpPr>
        <p:spPr>
          <a:xfrm>
            <a:off x="365040" y="2544840"/>
            <a:ext cx="654120" cy="76176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ign Space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(.mga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>
            <a:hlinkClick r:id="rId10"/>
          </p:cNvPr>
          <p:cNvSpPr/>
          <p:nvPr/>
        </p:nvSpPr>
        <p:spPr>
          <a:xfrm>
            <a:off x="1752480" y="2658960"/>
            <a:ext cx="1067040" cy="53352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SME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0" idx="4"/>
            <a:endCxn id="101" idx="1"/>
          </p:cNvCxnSpPr>
          <p:nvPr/>
        </p:nvCxnSpPr>
        <p:spPr>
          <a:xfrm>
            <a:off x="1019160" y="2925720"/>
            <a:ext cx="73368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03" name=""/>
          <p:cNvCxnSpPr>
            <a:stCxn id="97" idx="1"/>
            <a:endCxn id="101" idx="2"/>
          </p:cNvCxnSpPr>
          <p:nvPr/>
        </p:nvCxnSpPr>
        <p:spPr>
          <a:xfrm flipV="1" rot="16200000">
            <a:off x="3328200" y="2150280"/>
            <a:ext cx="735480" cy="2819880"/>
          </a:xfrm>
          <a:prstGeom prst="bentConnector3">
            <a:avLst>
              <a:gd name="adj1" fmla="val 49510"/>
            </a:avLst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04" name=""/>
          <p:cNvCxnSpPr>
            <a:stCxn id="101" idx="3"/>
            <a:endCxn id="105" idx="2"/>
          </p:cNvCxnSpPr>
          <p:nvPr/>
        </p:nvCxnSpPr>
        <p:spPr>
          <a:xfrm>
            <a:off x="2819520" y="2925720"/>
            <a:ext cx="60984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06" name=""/>
          <p:cNvCxnSpPr>
            <a:stCxn id="93" idx="2"/>
            <a:endCxn id="100" idx="1"/>
          </p:cNvCxnSpPr>
          <p:nvPr/>
        </p:nvCxnSpPr>
        <p:spPr>
          <a:xfrm>
            <a:off x="691920" y="2039760"/>
            <a:ext cx="720" cy="505440"/>
          </a:xfrm>
          <a:prstGeom prst="straightConnector1">
            <a:avLst/>
          </a:prstGeom>
          <a:ln w="57240">
            <a:solidFill>
              <a:srgbClr val="ccccff"/>
            </a:solidFill>
            <a:miter/>
            <a:headEnd len="sm" type="triangle" w="sm"/>
            <a:tailEnd len="sm" type="triangle" w="sm"/>
          </a:ln>
        </p:spPr>
      </p:cxnSp>
      <p:sp>
        <p:nvSpPr>
          <p:cNvPr id="105" name=""/>
          <p:cNvSpPr/>
          <p:nvPr/>
        </p:nvSpPr>
        <p:spPr>
          <a:xfrm>
            <a:off x="3429000" y="2544840"/>
            <a:ext cx="533520" cy="76176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(.xml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91" idx="1"/>
          </p:cNvCxnSpPr>
          <p:nvPr/>
        </p:nvCxnSpPr>
        <p:spPr>
          <a:xfrm>
            <a:off x="3962520" y="2925720"/>
            <a:ext cx="47160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sp>
        <p:nvSpPr>
          <p:cNvPr id="108" name=""/>
          <p:cNvSpPr/>
          <p:nvPr/>
        </p:nvSpPr>
        <p:spPr>
          <a:xfrm>
            <a:off x="6248520" y="2544840"/>
            <a:ext cx="533160" cy="76176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(.xml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43880" y="5329080"/>
            <a:ext cx="533160" cy="76212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ncrete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ild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(.xml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91" idx="3"/>
            <a:endCxn id="108" idx="2"/>
          </p:cNvCxnSpPr>
          <p:nvPr/>
        </p:nvCxnSpPr>
        <p:spPr>
          <a:xfrm>
            <a:off x="5729400" y="2925720"/>
            <a:ext cx="51948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11" name=""/>
          <p:cNvCxnSpPr>
            <a:stCxn id="108" idx="4"/>
            <a:endCxn id="94" idx="1"/>
          </p:cNvCxnSpPr>
          <p:nvPr/>
        </p:nvCxnSpPr>
        <p:spPr>
          <a:xfrm flipV="1">
            <a:off x="6781680" y="2923200"/>
            <a:ext cx="927720" cy="2880"/>
          </a:xfrm>
          <a:prstGeom prst="bentConnector3">
            <a:avLst>
              <a:gd name="adj1" fmla="val 50000"/>
            </a:avLst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12" name=""/>
          <p:cNvCxnSpPr>
            <a:stCxn id="94" idx="2"/>
            <a:endCxn id="113" idx="1"/>
          </p:cNvCxnSpPr>
          <p:nvPr/>
        </p:nvCxnSpPr>
        <p:spPr>
          <a:xfrm rot="16200000">
            <a:off x="8078760" y="3700440"/>
            <a:ext cx="52452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14" name=""/>
          <p:cNvCxnSpPr>
            <a:stCxn id="109" idx="2"/>
            <a:endCxn id="115" idx="3"/>
          </p:cNvCxnSpPr>
          <p:nvPr/>
        </p:nvCxnSpPr>
        <p:spPr>
          <a:xfrm rot="10800000">
            <a:off x="5791320" y="5710320"/>
            <a:ext cx="95292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sp>
        <p:nvSpPr>
          <p:cNvPr id="116" name="">
            <a:hlinkClick r:id="rId11"/>
          </p:cNvPr>
          <p:cNvSpPr/>
          <p:nvPr/>
        </p:nvSpPr>
        <p:spPr>
          <a:xfrm>
            <a:off x="3733920" y="5329080"/>
            <a:ext cx="533160" cy="76212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atlab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Build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cript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(.m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6" idx="4"/>
          </p:cNvCxnSpPr>
          <p:nvPr/>
        </p:nvCxnSpPr>
        <p:spPr>
          <a:xfrm rot="10800000">
            <a:off x="4267080" y="5710320"/>
            <a:ext cx="45756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18" name=""/>
          <p:cNvCxnSpPr>
            <a:stCxn id="116" idx="2"/>
            <a:endCxn id="90" idx="3"/>
          </p:cNvCxnSpPr>
          <p:nvPr/>
        </p:nvCxnSpPr>
        <p:spPr>
          <a:xfrm flipV="1" rot="10800000">
            <a:off x="3352320" y="5710320"/>
            <a:ext cx="381600" cy="1080"/>
          </a:xfrm>
          <a:prstGeom prst="bentConnector3">
            <a:avLst>
              <a:gd name="adj1" fmla="val 50047"/>
            </a:avLst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19" name=""/>
          <p:cNvCxnSpPr>
            <a:stCxn id="90" idx="1"/>
          </p:cNvCxnSpPr>
          <p:nvPr/>
        </p:nvCxnSpPr>
        <p:spPr>
          <a:xfrm rot="10800000">
            <a:off x="2221560" y="5711040"/>
            <a:ext cx="369360" cy="36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sp>
        <p:nvSpPr>
          <p:cNvPr id="120" name=""/>
          <p:cNvSpPr/>
          <p:nvPr/>
        </p:nvSpPr>
        <p:spPr>
          <a:xfrm>
            <a:off x="1828800" y="26668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650480" y="5443560"/>
            <a:ext cx="1238040" cy="546120"/>
            <a:chOff x="4650480" y="5443560"/>
            <a:chExt cx="1238040" cy="546120"/>
          </a:xfrm>
        </p:grpSpPr>
        <p:sp>
          <p:nvSpPr>
            <p:cNvPr id="115" name="">
              <a:hlinkClick r:id="rId12"/>
            </p:cNvPr>
            <p:cNvSpPr/>
            <p:nvPr/>
          </p:nvSpPr>
          <p:spPr>
            <a:xfrm>
              <a:off x="4724280" y="5443560"/>
              <a:ext cx="1067040" cy="5335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L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5456160"/>
              <a:ext cx="0" cy="533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5456160"/>
              <a:ext cx="0" cy="533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50480" y="5532480"/>
              <a:ext cx="2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U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40840" y="5532480"/>
              <a:ext cx="2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U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669040" y="274320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Times New Roman"/>
              </a:rPr>
              <a:t>U</a:t>
            </a: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8680" y="274320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Times New Roman"/>
              </a:rPr>
              <a:t>U</a:t>
            </a: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96" idx="2"/>
            <a:endCxn id="90" idx="0"/>
          </p:cNvCxnSpPr>
          <p:nvPr/>
        </p:nvCxnSpPr>
        <p:spPr>
          <a:xfrm flipV="1" rot="10800000">
            <a:off x="2971440" y="4346280"/>
            <a:ext cx="686160" cy="1026000"/>
          </a:xfrm>
          <a:prstGeom prst="bentConnector2">
            <a:avLst/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1353600" y="230040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Tahoma"/>
              </a:rPr>
              <a:t>(DSME2HSFA.ex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>
            <a:hlinkClick r:id="rId13"/>
          </p:cNvPr>
          <p:cNvSpPr/>
          <p:nvPr/>
        </p:nvSpPr>
        <p:spPr>
          <a:xfrm>
            <a:off x="8013600" y="3962520"/>
            <a:ext cx="654120" cy="76176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(.mga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99920" y="36576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Tahoma"/>
              </a:rPr>
              <a:t>(DSME2SL.ex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3440" y="60199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Tahoma"/>
              </a:rPr>
              <a:t>(SL2M.ex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2"/>
          </p:cNvCxnSpPr>
          <p:nvPr/>
        </p:nvCxnSpPr>
        <p:spPr>
          <a:xfrm rot="10800000">
            <a:off x="7542720" y="4342680"/>
            <a:ext cx="470880" cy="1080"/>
          </a:xfrm>
          <a:prstGeom prst="bentConnector3">
            <a:avLst>
              <a:gd name="adj1" fmla="val 74139"/>
            </a:avLst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135" idx="2"/>
            <a:endCxn id="109" idx="1"/>
          </p:cNvCxnSpPr>
          <p:nvPr/>
        </p:nvCxnSpPr>
        <p:spPr>
          <a:xfrm flipH="1" rot="16200000">
            <a:off x="6631920" y="4950000"/>
            <a:ext cx="757440" cy="720"/>
          </a:xfrm>
          <a:prstGeom prst="bentConnector3">
            <a:avLst>
              <a:gd name="adj1" fmla="val 50451"/>
            </a:avLst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97" idx="4"/>
          </p:cNvCxnSpPr>
          <p:nvPr/>
        </p:nvCxnSpPr>
        <p:spPr>
          <a:xfrm flipV="1">
            <a:off x="5410080" y="4342680"/>
            <a:ext cx="1067760" cy="4320"/>
          </a:xfrm>
          <a:prstGeom prst="bentConnector3">
            <a:avLst>
              <a:gd name="adj1" fmla="val 60640"/>
            </a:avLst>
          </a:prstGeom>
          <a:ln w="57240">
            <a:solidFill>
              <a:srgbClr val="ccccff"/>
            </a:solidFill>
            <a:miter/>
            <a:tailEnd len="sm" type="triangle" w="sm"/>
          </a:ln>
        </p:spPr>
      </p:cxnSp>
      <p:grpSp>
        <p:nvGrpSpPr>
          <p:cNvPr id="137" name=""/>
          <p:cNvGrpSpPr/>
          <p:nvPr/>
        </p:nvGrpSpPr>
        <p:grpSpPr>
          <a:xfrm>
            <a:off x="6402960" y="4038480"/>
            <a:ext cx="1238040" cy="546120"/>
            <a:chOff x="6402960" y="4038480"/>
            <a:chExt cx="1238040" cy="546120"/>
          </a:xfrm>
        </p:grpSpPr>
        <p:sp>
          <p:nvSpPr>
            <p:cNvPr id="135" name="">
              <a:hlinkClick r:id="rId14"/>
            </p:cNvPr>
            <p:cNvSpPr/>
            <p:nvPr/>
          </p:nvSpPr>
          <p:spPr>
            <a:xfrm>
              <a:off x="6476760" y="4038480"/>
              <a:ext cx="1067040" cy="53352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SME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53080" y="4051080"/>
              <a:ext cx="0" cy="533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67480" y="4051080"/>
              <a:ext cx="0" cy="5335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02960" y="4127400"/>
              <a:ext cx="2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U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3320" y="4127400"/>
              <a:ext cx="2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U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152280" y="4800600"/>
            <a:ext cx="2057400" cy="174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43640" y="6489720"/>
            <a:ext cx="2611440" cy="276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C: sandeep.k.neema@vanderbilt.edu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9:39:13Z</dcterms:created>
  <dc:creator>Ted Bapty</dc:creator>
  <dc:description/>
  <dc:language>en-US</dc:language>
  <cp:lastModifiedBy>Sandeep Neema</cp:lastModifiedBy>
  <cp:lastPrinted>2000-09-25T19:05:17Z</cp:lastPrinted>
  <dcterms:modified xsi:type="dcterms:W3CDTF">2003-03-25T23:05:36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1267383</vt:r8>
  </property>
  <property fmtid="{D5CDD505-2E9C-101B-9397-08002B2CF9AE}" pid="3" name="_AuthorEmail">
    <vt:lpwstr>jgray@isis-server.vuse.vanderbilt.edu</vt:lpwstr>
  </property>
  <property fmtid="{D5CDD505-2E9C-101B-9397-08002B2CF9AE}" pid="4" name="_AuthorEmailDisplayName">
    <vt:lpwstr>Jeff Gray</vt:lpwstr>
  </property>
  <property fmtid="{D5CDD505-2E9C-101B-9397-08002B2CF9AE}" pid="5" name="_EmailSubject">
    <vt:lpwstr>Mesa PI</vt:lpwstr>
  </property>
  <property fmtid="{D5CDD505-2E9C-101B-9397-08002B2CF9AE}" pid="6" name="_ReviewingToolsShownOnce">
    <vt:lpwstr/>
  </property>
</Properties>
</file>